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67B-513F-43CE-97E3-07D9CA1C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132-84EA-4961-AAF6-E359E194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0955-EFC6-46A2-BA15-F81D9EBFC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C94-E35E-42CE-BA3A-43D25618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30F40-0EE6-4F21-8C64-70A9AF24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924E-C38B-491D-B471-6B0D0981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B2B2-ED9F-45BE-9AB2-B99CE7C4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C208-BF5F-452C-9F4D-25F9697F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A6390-34C0-4F5C-A16E-BC671633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322B-A062-4950-943F-73C69B90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DDB40-8051-4F5A-8248-2C4EDA74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0A78-65F7-44EC-84CA-FE505A01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D37E-792C-4A2F-A377-F24F687C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FF29-55F9-476B-929C-3038ED58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F3DE-9A0C-4230-ABC6-CAB51A6E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F3525-CAE3-40BA-A203-8CCE6DC0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57AD-2523-451D-89C7-A145ACA4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BE918-4434-43DF-B1D4-89751006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B6F26-E82B-4B97-A247-158D6F81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6891-E564-4607-945E-A01E48DC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8A10E-BF72-4499-8C97-DFCBBE5B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EA16-004F-44F8-A544-1592E959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FAA8-81AA-47B4-9C79-890CB188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B5893-04BB-4A2A-A939-FEBD345F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1D43E-16B5-40D7-A5E5-AABB3019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7924D-83A1-4905-B954-60960385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73C81-0CC5-4959-8FB1-679CD71A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5774-3F63-4ECA-B036-21D3E915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B96C0-1426-49A1-B895-713A58C6F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E6B97-2404-4A49-831B-DAA0D13B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80DAB-4C76-4568-AE8D-97801855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99316-E66E-421B-8C30-DF8EB95C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143D6-BC5B-4210-990F-5CA5BE11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4ABA-3B19-4301-B223-517CC196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76A9C-509F-4B80-A876-92D13242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9C34F-7046-4B39-8560-D785D8CB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43203-F5ED-441E-A00A-2F323D3C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55635-0DD3-42AC-BCE4-4AA2CEE4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2529D-DAF7-4DCE-AEC4-D6666669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B788E-5BD9-484D-BD91-88ACD778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0997E-77B3-451C-863D-431EC33B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8F30C-6BB6-42DD-9B1B-41DAB3DA8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DFD8B-8AA3-4EC5-A290-509C9750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FF062-4276-438E-99DF-FBA51683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A0C-879D-4CCD-9287-8C33A563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2D7CC-BA5A-4D1A-ABE1-B48C4856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C1434-A7AE-47AB-9C2D-E652061A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B6F86-AC3C-413F-A57A-898AF844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C8C71-52DE-440C-8312-E413A0B0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E6A7B-2EC6-4E3D-98B7-D1771276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37043-241B-4244-99E8-7D947A99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9537F-B503-47E9-B70D-779E8195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83CD2-4A57-4730-93ED-EFAB78C0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94442-FA4C-49AC-A7D0-FFF7B57E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BB478-70A7-4462-9037-C2C806B7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124C-FD06-4BE2-98A0-04341AC0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D3146-96BA-4CA7-8E4A-D1AC19DC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3DEFB-4E99-4FA2-92E3-1F8ACBECD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4043D-7A25-4BB4-9CC8-E793F643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9BD13-E416-486A-9BAB-DD697531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075DB-DC0A-418E-8A27-7BA2CBC2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67298-583C-4D7E-A318-FCDB12D8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A295B-51E9-4AEF-87A3-4694D44C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6DC63-394D-4C62-929C-5CD56C39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7EE51-6CE7-4060-8E64-C3EB295A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A0A17-3DC9-4BE6-A4ED-A1EA52E7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1AA-FC78-4B3B-9F5A-6B76C4C2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9B1B7-FE0C-4F35-9BF2-335805FC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16B42-E576-4134-97D5-8236CA91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AF264-8EF0-4D37-8325-5443C043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75D82-120C-4853-9339-4F6D54CF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49E2C-C07B-42E9-852E-5ACC20A0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8B4C4-EDCF-4FE4-A454-89ED445B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E049F-54F5-420D-B5E8-357ACA30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4BC31-FFC7-4DF1-98D5-B85FF6D5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F608E-A171-4C76-8CDD-55C05E22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CE66F-B36D-4004-ACE2-CE2AF0BF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DA0-7BCD-4FD2-97E9-13F8AB01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6F73F-EA1A-4024-8D62-4E8695D9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C8AD1-BF5B-4836-84AA-F2227868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CB9AE-76F5-496D-9E29-409D1468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EAA53-529C-4D12-AEFA-DB5B7E4B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04B87-7021-4CDE-B7BB-11729983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F8309-4B0C-405F-B72B-CCE6601A9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20AF5-F0DA-41AD-918B-B4E70DAC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EA7FB-D1DF-4D04-8A89-47606252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E6DAB-69DD-4FB5-B0C5-3A9FF22AB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887EE-595F-4BB3-BB41-746CC607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AD2-A9DE-4C01-8D38-5135A2F5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02C09-62B4-45E3-B870-06108928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B9AB0-43F2-4F79-ADA6-CAFE7906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2F19A-6FF4-4B54-B6AE-341FDBC3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E61E2-A77F-4A73-979E-03618C82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9ABC8-D393-4614-B10E-EC35C8AB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BACAD-2A6A-405B-B95F-D80D4748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981B4-DCD1-4577-BC81-48305228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5698-5F46-421B-8D01-33BE380AD4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4754-756A-40EE-A37F-436BA409E6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5B21-5C45-4D10-85FD-A56B4D5ED9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3BE8-5D46-4BB8-BB74-330E0FB43D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8984-4D60-4C69-98B9-259417FECF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2D79-4205-4C66-B4E9-DC026DB65B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86AF-CDCB-4869-A5D1-577DA57BF8C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3C33-D62D-4B3C-AAC9-5D27542912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523800" y="1749600"/>
            <a:ext cx="824868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64646"/>
                </a:solidFill>
                <a:latin typeface="Lucida Sans Unicode"/>
              </a:rPr>
              <a:t>May 2009 IB Case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700" spc="-1" strike="noStrike">
                <a:solidFill>
                  <a:srgbClr val="464646"/>
                </a:solidFill>
                <a:latin typeface="Lucida Sans Unicode"/>
              </a:rPr>
              <a:t>Issues to Revi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A paternalistic leader thinks and acts like a parent. He/she tries to do their best for their workers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There may be consultation to find out the views of employees, but decisions are made by the head of the family.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This type of leader believes employees need direction but thinks it is important they are supported and cared for properly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Paternalistic managers are interested in the security and social needs of their staff.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They are interested in how workers feel and whether they are happy in their work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Nevertheless, it is quite an autocratic approach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he knows the staff well so feels that a paternalistic approach is best – as they are family frie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t is not a large groups of employees so she can keep control with this paternalistic approa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th this approach, she can care for them and look after their welfare, which will make them want to stay with her – and remain loy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re have been problems with this approach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ff absences and poor punctuality. She has to cover their duties, and this takes her away from her core responsibil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st of her staff are part-time, and are less likely to be motivated? They may need a more strict approach to get them to wo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As a paternalistic leader (just like autocratic leaders) she does not give employees control over decision mak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ask in h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radition of the organ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ype of wor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group si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leader’s person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Group person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ad lines 93-113 of the case study carefully and using your textbook, outline which theorists we can apply to this case study. (leadership (HL) and motivational). (IBO page 269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ing the Raffo book, evaluate the monetary and non-monetary rewards mentioned in the case study (if any). Which do you suggest could be used to solve Sophie’s problem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mportant suggested reading – notes to be made and applied to the case stud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ikert – lead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atrix struct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informal organ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inzberg/Pet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Sophie gets a lot of help with her business from her par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She has several part time and 2 full time employe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These come from the community, and are family friends with Sophie. This is why she has adopted a paternalistic leadership styl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High levels of staff turnover punctualit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The Sanctuary recruiting more part time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Having a large number of periphery and a small number of core workers is causing her proble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Does this mean it is wise to recruit more part time – and students???? For a low starting salary as well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he must manage her human resources more professionally and consistently. We could argue that her leadership style is not helping these proble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249120" y="128520"/>
            <a:ext cx="8444160" cy="1298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he core staff have similar eco-tourism values, and they give her ideas about how to attract young eco-tourists to the area. This could open up opportunities for h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Lower costs for summer staff – as their salaries will be low as they are student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he covers a busy period (summer) and avoids recruiting permanent staff she may not need later on if she recruited summer staff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hey are young/fresh new ideas/eager to work (summer staff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49120" y="128520"/>
            <a:ext cx="8444160" cy="12985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Core staff would be more committed to LM. They will be more professional as this is their career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he may find it difficult to employ summer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Core idea will be more expensive – as she will have to give career opportunities and an enhanced pay structur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It may solve some of her problems if she increased her core workers – to make it more professional and avoid the current existing problems she is facing with part time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Businesses have a core group of workers, which form the basis of its operations and a periphery, which consist of all other tasks needed to run the firm, but which are not central to the busines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Professor Charles Handy suggested that there were three parts to modern firms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Reading Wall page 275-276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Sophie has adopted a paternalistic leadership style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Definition: where managers and leaders treat their employees as if they were family members by guiding them through a process of consultation. In their opinion, they act in the best interests of their worker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Write down five key features/traits of a paternalistic leader....</a:t>
            </a: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This style is derived from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Mayo’s work on human relations and Maslow’s lower and middle order needs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The approach is to consult with staff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Usually there is emphasis on training and appraisal for personal development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avan Zora</dc:creator>
  <dc:description/>
  <dc:language>en-US</dc:language>
  <cp:lastModifiedBy>chwh</cp:lastModifiedBy>
  <dcterms:modified xsi:type="dcterms:W3CDTF">2009-03-31T06:52:22Z</dcterms:modified>
  <cp:revision>26</cp:revision>
  <dc:subject/>
  <dc:title>Les Maisonnettes</dc:title>
</cp:coreProperties>
</file>